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5440" y="404820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72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56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544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56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1120" y="254160"/>
            <a:ext cx="83232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72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5440" y="404820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72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956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04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544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956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04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1120" y="254160"/>
            <a:ext cx="83232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72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64960" y="501480"/>
            <a:ext cx="8614080" cy="5721480"/>
          </a:xfrm>
          <a:prstGeom prst="rect">
            <a:avLst/>
          </a:prstGeom>
          <a:solidFill>
            <a:srgbClr val="000066"/>
          </a:solidFill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2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indent="-191880">
              <a:spcBef>
                <a:spcPts val="2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28000" indent="-1918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28000" indent="-1918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28000" indent="-1918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19800" y="6324480"/>
            <a:ext cx="244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imes New Roman"/>
              </a:rPr>
              <a:t>Computer Vision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400" y="6172200"/>
            <a:ext cx="145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University of California</a:t>
            </a:r>
            <a:r>
              <a:rPr b="1" lang="de-DE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000"/>
            </a:br>
            <a:r>
              <a:rPr b="1" lang="de-DE" sz="1600" spc="-1" strike="noStrike">
                <a:solidFill>
                  <a:srgbClr val="ffffff"/>
                </a:solidFill>
                <a:latin typeface="Times New Roman"/>
              </a:rPr>
              <a:t>Berke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64960" y="6261120"/>
            <a:ext cx="1951200" cy="407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4960" y="501480"/>
            <a:ext cx="8614080" cy="5721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85880" y="6324480"/>
            <a:ext cx="90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Jan Puzi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964640" y="6242040"/>
            <a:ext cx="91116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cognizing Objects in Adversarial Clutter: Breaking a Visual CAPTCHA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429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g Mori and Jitendra Ma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wo Instanc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tom up, parts-bas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letters first, then form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p down, holistic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entire words immedi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lgorithm 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5800" y="182052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for le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ative Shape Contex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pairs of letters that are “consiste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ers nearby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 for valid wor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scores to the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3682800" cy="101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3682800" cy="1016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34120" y="3581280"/>
            <a:ext cx="3657600" cy="1009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334120" y="4800600"/>
            <a:ext cx="36576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Z-Gimpy Results with Algorithm 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323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8 of 191 images correctly identified: 8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ning time: ~10 sec. per image (MATLAB, 1 Ghz P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76920" y="3581280"/>
            <a:ext cx="3682800" cy="1016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76920" y="5029200"/>
            <a:ext cx="3682800" cy="1015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3683160" cy="1015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09480" y="2133720"/>
            <a:ext cx="3683160" cy="101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09480" y="3581280"/>
            <a:ext cx="3683160" cy="1016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876920" y="2133720"/>
            <a:ext cx="3682800" cy="101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479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p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imp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5440" y="4191120"/>
            <a:ext cx="8323560" cy="18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words, task is to find 3 words in the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tter is other objects, not tex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7150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lgorithm B: Letters are not enough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323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to distinguish single letters with so much clu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2210040" cy="1395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846360" cy="1371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934320" y="990720"/>
            <a:ext cx="126504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2438280" y="990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477120" y="3200400"/>
            <a:ext cx="2666880" cy="1120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6477120" y="4800600"/>
            <a:ext cx="2666880" cy="1049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2971800"/>
            <a:ext cx="6019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words instead of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long range info over entire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tch shape contexts into ellip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problem becomes h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of words 600 vs. # of letters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une set of words using opening/closing bi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s with Algorithm B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181480" y="1143000"/>
          <a:ext cx="3657600" cy="2476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Correct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tests (of 2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or 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or 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Z-Gim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657600" cy="2031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657600" cy="2031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657600" cy="2031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520" y="3200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ry clear me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oor farm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ard arc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2590920"/>
            <a:ext cx="3962520" cy="106668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TCHAs useful as datasets for studying object re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stag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 pru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ailed mat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% success rate on EZ-Gim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R (+hacks) 10-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3% success rate on Gim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APTCH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they good datasets for object recogni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recognition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on EZ-Gimpy and Gim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at is a CAPTCHA?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CHA: Completely Automated Public Turing test to Tell Computers and Humans Apart (Blum et al., CM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s and grades tests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humans can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computer programs can’t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var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 based (Gimpy, EZ-Gimp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 based (Pi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based (Bon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Z-Gimp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5070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-based CAPTC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k is to read a single word obscured in clu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ly in use at Yahoo! and Ticket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ters out ‘bots’ from obtaining free email accounts, buying blocks of tic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60840" y="2057400"/>
            <a:ext cx="3683160" cy="101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60840" y="3352680"/>
            <a:ext cx="3683160" cy="101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460840" y="4648320"/>
            <a:ext cx="36831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PTCHAs as Object Recognition Datase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number of objects (600 wor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ctically infinite set of test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ntitative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rsarial”, intended to be difficult for 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variation due to pose, 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thetic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bject Recognition Framework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5440" y="1523520"/>
            <a:ext cx="832356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ch objects using shape c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ed as a point set extracted using Canny edge de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wo stage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 pru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ck tests to construct a shortlist of candidate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base of known objects could be l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mat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 computationally expensive comparisons on only the few shapes in the shor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95960" cy="5473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pe contexts (Belongie et al. 2001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2360" y="1600200"/>
            <a:ext cx="2895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 the number of points inside each bin, e.g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 =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1523880"/>
            <a:ext cx="3809880" cy="3733920"/>
            <a:chOff x="0" y="1523880"/>
            <a:chExt cx="3809880" cy="3733920"/>
          </a:xfrm>
        </p:grpSpPr>
        <p:sp>
          <p:nvSpPr>
            <p:cNvPr id="101" name=""/>
            <p:cNvSpPr/>
            <p:nvPr/>
          </p:nvSpPr>
          <p:spPr>
            <a:xfrm>
              <a:off x="0" y="1523880"/>
              <a:ext cx="3809880" cy="3733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90360" y="2514600"/>
              <a:ext cx="1828800" cy="1828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7560" y="2971800"/>
              <a:ext cx="914400" cy="9144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160" y="3200400"/>
              <a:ext cx="45720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3352680"/>
              <a:ext cx="15228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429000"/>
              <a:ext cx="3809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04560" y="2438280"/>
              <a:ext cx="3276720" cy="1905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990360" y="1828800"/>
              <a:ext cx="1828800" cy="320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904760" y="1600200"/>
              <a:ext cx="0" cy="365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990360" y="1828800"/>
              <a:ext cx="1828800" cy="320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304560" y="2514600"/>
              <a:ext cx="320040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562720" y="49528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ZapfDingba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pact representation of distribution of points relative to each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733920" y="3200040"/>
            <a:ext cx="1752480" cy="30492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352320" y="4495680"/>
            <a:ext cx="2133720" cy="7632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eatures: Generalized Shape Contex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352680" cy="42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put more than just point counts in b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ented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ur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cal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6386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981080"/>
            <a:ext cx="3733920" cy="1489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ast Pruning: Representative Shape Contex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4267080"/>
            <a:ext cx="8323560" cy="204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k k points in the image at ran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 to all shape contexts for all known let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te for closely matching let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all letters with scores under thresh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05740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666880"/>
            <a:ext cx="152280" cy="152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895480"/>
            <a:ext cx="152280" cy="152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2438280"/>
            <a:ext cx="152640" cy="152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124080"/>
            <a:ext cx="152280" cy="152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2895480"/>
            <a:ext cx="152280" cy="152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1371600"/>
            <a:ext cx="91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 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57600" y="1828440"/>
            <a:ext cx="160020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86200" y="2133720"/>
            <a:ext cx="1523880" cy="761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9718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2971800"/>
            <a:ext cx="1524240" cy="1066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514600"/>
            <a:ext cx="167652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2514600"/>
            <a:ext cx="1600200" cy="1066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III</dc:creator>
  <dc:description/>
  <dc:language>en-US</dc:language>
  <cp:lastModifiedBy>Greg Mori</cp:lastModifiedBy>
  <cp:lastPrinted>1999-06-18T16:11:53Z</cp:lastPrinted>
  <dcterms:modified xsi:type="dcterms:W3CDTF">2005-07-09T06:11:29Z</dcterms:modified>
  <cp:revision>303</cp:revision>
  <dc:subject/>
  <dc:title>Kein Folientitel</dc:title>
</cp:coreProperties>
</file>